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FANFAR1.WAV" ContentType="audio/x-wav"/>
  <Override PartName="/ppt/media/image3.wmf" ContentType="image/x-wmf"/>
  <Override PartName="/ppt/media/image4.wmf" ContentType="image/x-wmf"/>
  <Override PartName="/ppt/media/image5.wmf" ContentType="image/x-wmf"/>
  <Override PartName="/ppt/media/image6.gif" ContentType="image/gif"/>
  <Override PartName="/ppt/media/image7.png" ContentType="image/png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ED7A-C4B4-4DDA-86A0-318AF6C11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FDAF-62A2-42DE-BE28-FB5BB8B4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92CC-BA2F-42E7-9674-8185EB8AB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F797-4F9A-4507-9828-7BC8147A5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3AC1-6E47-4A01-9755-5C5D38C5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BB1F-7C04-4341-841E-D1618F76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5EF2-F789-4082-AABD-2814E212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FB1F-156D-441C-85A2-5B9B960C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F072-29F4-47CD-9DE3-4D4E2E0F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8C85-A381-4426-AB3F-0D354D0E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DB38-90A6-4466-9C24-D38242BA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2A20-AA6B-4844-950E-C47DF4C7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8F89-5AA1-4CE1-BC1C-2019B2B6D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FANFAR1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FANFAR1.WAV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6.gi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0" y="1752480"/>
            <a:ext cx="51436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 Birthday Basket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for Tia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172200" y="4191120"/>
            <a:ext cx="21924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ANFAR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172200" y="4191120"/>
            <a:ext cx="2192400" cy="2381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1981080" y="1447920"/>
            <a:ext cx="51436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Keep Practicing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djective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ANFAR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943600" y="762120"/>
            <a:ext cx="2192400" cy="2381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371600" y="1447920"/>
            <a:ext cx="4432320" cy="4647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438280" y="2286000"/>
            <a:ext cx="2971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t is my birthday! My brain is full of adjectives that describe how I feel.  Can you find the adjectiv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295280" y="380880"/>
            <a:ext cx="1562400" cy="1695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990720" y="3352680"/>
            <a:ext cx="7467480" cy="3048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00400" y="3809880"/>
            <a:ext cx="49528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 my </a:t>
            </a:r>
            <a:r>
              <a:rPr b="1" lang="en-US" sz="4000" spc="-1" strike="noStrike">
                <a:solidFill>
                  <a:srgbClr val="66ffff"/>
                </a:solidFill>
                <a:latin typeface="Times New Roman"/>
              </a:rPr>
              <a:t>birthday breakfas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 had three brightly colored doughnu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2400" y="304920"/>
            <a:ext cx="18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irth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3480" y="99072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895480" y="762120"/>
            <a:ext cx="1295640" cy="1277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3809880" y="838080"/>
            <a:ext cx="1371600" cy="1030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869800" y="175248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lo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447920" y="2057400"/>
            <a:ext cx="3657600" cy="1099800"/>
            <a:chOff x="1447920" y="2057400"/>
            <a:chExt cx="3657600" cy="1099800"/>
          </a:xfrm>
        </p:grpSpPr>
        <p:sp>
          <p:nvSpPr>
            <p:cNvPr id="55" name=""/>
            <p:cNvSpPr/>
            <p:nvPr/>
          </p:nvSpPr>
          <p:spPr>
            <a:xfrm>
              <a:off x="1447920" y="2514600"/>
              <a:ext cx="198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brightl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00400" y="2057400"/>
              <a:ext cx="1905120" cy="685800"/>
            </a:xfrm>
            <a:prstGeom prst="wedgeEllipseCallout">
              <a:avLst>
                <a:gd name="adj1" fmla="val -50500"/>
                <a:gd name="adj2" fmla="val 5578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ver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143000" y="0"/>
            <a:ext cx="1562040" cy="169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057400" y="914400"/>
            <a:ext cx="3733920" cy="2189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990720" y="3352680"/>
            <a:ext cx="7467480" cy="3048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19520" y="3962520"/>
            <a:ext cx="49528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ther made an enormous chocolate </a:t>
            </a:r>
            <a:r>
              <a:rPr b="1" lang="en-US" sz="4000" spc="-1" strike="noStrike">
                <a:solidFill>
                  <a:srgbClr val="66ffff"/>
                </a:solidFill>
                <a:latin typeface="Times New Roman"/>
              </a:rPr>
              <a:t>birthda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ak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5040" y="685800"/>
            <a:ext cx="211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normo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46120" y="1371600"/>
            <a:ext cx="20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5040" y="2209680"/>
            <a:ext cx="18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irth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295280" y="380880"/>
            <a:ext cx="1562400" cy="1695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990720" y="3352680"/>
            <a:ext cx="7467480" cy="3048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743200" y="3657600"/>
            <a:ext cx="51055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 the kitchen table there was a  </a:t>
            </a:r>
            <a:r>
              <a:rPr b="1" lang="en-US" sz="4000" spc="-1" strike="noStrike">
                <a:solidFill>
                  <a:srgbClr val="66ffff"/>
                </a:solidFill>
                <a:latin typeface="Times New Roman"/>
              </a:rPr>
              <a:t>frui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66ffff"/>
                </a:solidFill>
                <a:latin typeface="Times New Roman"/>
              </a:rPr>
              <a:t>bask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with a large pink box in it instead of the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frui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92760" y="68580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kitc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3120" y="137160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ru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2057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ar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92400" y="266688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in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3276720" y="990720"/>
            <a:ext cx="149688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5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895480" y="457200"/>
            <a:ext cx="2176560" cy="2362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990720" y="3352680"/>
            <a:ext cx="7467480" cy="3048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971800" y="3733920"/>
            <a:ext cx="49528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ther said the pink box was for the exciting </a:t>
            </a:r>
            <a:r>
              <a:rPr b="1" lang="en-US" sz="4400" spc="-1" strike="noStrike">
                <a:solidFill>
                  <a:srgbClr val="66ffff"/>
                </a:solidFill>
                <a:latin typeface="Times New Roman"/>
              </a:rPr>
              <a:t>party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had planned  for ton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4680" y="91440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in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6120" y="160020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xc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295280" y="380880"/>
            <a:ext cx="1562400" cy="1695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990720" y="3352680"/>
            <a:ext cx="7467480" cy="3048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743200" y="3809880"/>
            <a:ext cx="52578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re was a</a:t>
            </a:r>
            <a:r>
              <a:rPr b="0" lang="en-US" sz="36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66ffff"/>
                </a:solidFill>
                <a:latin typeface="Times New Roman"/>
              </a:rPr>
              <a:t>secret</a:t>
            </a:r>
            <a:r>
              <a:rPr b="0" lang="en-US" sz="36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ide of the large pink box .  I am an excited little gir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93840" y="68580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ar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92400" y="137160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in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2057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xci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3840" y="2666880"/>
            <a:ext cx="10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itt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276720" y="990720"/>
            <a:ext cx="149688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5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486400" y="1219320"/>
            <a:ext cx="2476440" cy="2476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724280" y="3505320"/>
            <a:ext cx="4114800" cy="33526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914400" y="304920"/>
            <a:ext cx="3581280" cy="6553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905120" y="1523880"/>
            <a:ext cx="22096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y surpris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r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gg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isy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we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at is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90720" y="304920"/>
            <a:ext cx="6933960" cy="6553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971800" y="1447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ad these wor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26668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irth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55040" y="2590920"/>
            <a:ext cx="134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ask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73960" y="342900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5400" y="350532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cr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8000" y="4419720"/>
            <a:ext cx="18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reakfa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9960" y="44197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ru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1T17:09:45Z</dcterms:created>
  <dc:creator>Donna Dintelman</dc:creator>
  <dc:description/>
  <dc:language>en-US</dc:language>
  <cp:lastModifiedBy>Karen</cp:lastModifiedBy>
  <dcterms:modified xsi:type="dcterms:W3CDTF">2008-07-06T00:51:15Z</dcterms:modified>
  <cp:revision>14</cp:revision>
  <dc:subject/>
  <dc:title>PowerPoint Presentation</dc:title>
</cp:coreProperties>
</file>